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5B60-6345-4073-B0DF-DFBBE94CD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8C88-6AF8-4EAC-BE9B-C64446FD3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43DE-C9C1-4D7B-A6FF-7EA95E47E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69FD-B901-4977-B10A-980FB139D3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A0EC-5C5D-408D-A8EC-3CB462D7B3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739D-F618-4AC1-B5FA-C17A8315B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1FD9-BD8C-41B6-9857-33B1995D9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40B3-A3A3-4787-9F71-67C066087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55BA-7BC4-4D2D-8658-9989B9266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B975-7E6B-4385-B75F-531BC22F4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3D94-7388-44AC-9E72-C76A62E16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9516-592B-488D-A2A1-95189F4F6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082B-C733-4778-B13E-A48C9B8F6D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sources.curriculum.org/secretariat/honouring/fostering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gains.ca/newsite/math2/classroomdynamics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841A-37A8-4409-8AB8-509474A0E7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ade 5 t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N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lling Abou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34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athematici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 about – meet as many group members as possible and record their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71F2-10D6-4D61-93D5-9AA2A2B6DC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2578-0EF9-41BA-B674-685B97AEB9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2361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norms for collaborative group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C154-687A-4411-8CAA-416411BD15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n the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 you a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ideas you recorded and  position yourself on the line between 1(no) and 10 (y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prompt and your position with those besid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B156-3A8D-4601-9FC4-3FAF4CE5C0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cky Note Pile 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“norms” (rules, conditions) need to be in place if we are to work and learn together collaboratively in groups as mathematician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take 4 or 5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one suggestion on each note (example: everyone gets a chance to share think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F07F-B428-432A-9918-06794F3DD2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cky Note Pile Up (con’t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oups of four compare your sticky notes and pile ones that are the same idea on top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with another group of four and repea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group of eight will read their sticky piles while remaining groups who have a similar pile put theirs on top until all sticky notes ar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2690-FADE-44BE-90C5-28C30C43F2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ouring Student Voice (Fostering a Community of Learners) It's ok to disagree!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esources.curriculum.org/secretariat/honouring/foster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6A57-5D8B-45A6-91CE-F76056B18F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ome Activity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ay wish to visit the EduGAINS Site and review the Classroom Dynamics resources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//www.edugains.ca/newsite/math2/classroomdynamic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e research monograph by Dr. Cathy Bruce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udent Interaction in the Math Classroom: Stealing Ideas or Building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edugains.ca/newsite/lns/whatworksseri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0C65-7E09-4FE1-8774-07539791AE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Blair, Danielle</cp:lastModifiedBy>
  <dcterms:modified xsi:type="dcterms:W3CDTF">2012-07-24T19:51:48Z</dcterms:modified>
  <cp:revision>38</cp:revision>
  <dc:subject/>
  <dc:title>&lt;Title&gt;</dc:title>
</cp:coreProperties>
</file>